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545-7D1D-4A62-88BD-6BF3E95E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094-7DE6-49E2-86B0-14D6D854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3B6-25E6-4338-9B62-D52D1DC6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8DD-5F52-4694-8DE6-1E689442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B8D-ABA4-4C98-9D01-BF4A86BD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DD62-D445-413E-A60A-4EB98E81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AEC9-6F89-4BF3-8037-78DD12E3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E18E-77B8-4C5D-86A5-D69EF864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0C54-49E2-4388-A79D-543DA326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1B93-3569-43D1-89F6-802EC4FA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BFE-5D81-4A7E-BCEC-C7A6FB9A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390-8BE0-48EB-9773-290580E5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2894-DD7F-48E0-9700-C2C3BFB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ED90-2F2D-471C-B8B6-3072785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C894-0823-47D8-8A65-86138969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051B-EBCA-43B2-B218-C05323B1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7E2-8401-4285-A294-5C49D498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DD18-C2EA-443A-BA2D-E5C1F56F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81FDA-38C4-4CDE-884A-A5140835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537C-CC98-4960-A05D-81635796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58E1-0193-49ED-9CE6-87E6F47C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A03A-A18E-4743-BB39-F8C7E725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D21-489C-443A-980C-F44D62E5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2034-6549-42D5-88B4-E90A2451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E1E4-E22F-43B0-92BC-E2D700B9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7D35-17DD-4538-9F52-4241AB98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33E7-9FB0-4992-808B-8E6D8F5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80D35-14A1-49FA-8B88-EC7A0892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B045-8A28-4B9D-8D28-5CBDB1EE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2390-C8E4-47C1-B7C3-A1946576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5E2B5-B50E-428A-BFAF-A7BC1057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7B496-72EA-409F-AF4A-905D7F7A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455A8-C6FB-4126-AD61-94BFC6AF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E98-1D75-4494-9B0E-CA803890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C4A5B-949F-4747-A761-06B4C683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82F97-B196-4EA6-A383-81194E3E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E3390-E546-4DAA-9E51-CAFECC9B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E3CEA-FA61-4F4C-B928-A4517B4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91C05-5E0D-4C33-96FA-A82D6062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61185-048A-4569-8538-335C4473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4F521-83B6-4E9A-A71A-41BD5B21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2F4AF-F5E6-461D-BCFB-54405BDA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6B605-A434-49D9-9BC3-ADAC4862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F8A50-9918-45E8-9B51-FE1990C6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D63-0C9D-4FEB-ABA2-56814B9A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B7DF-39E8-4AF5-ACA2-D673CDDE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903D8-F3BC-4598-8078-695D62C5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BEB2F-AE2B-41D7-912D-60C84E9E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2249-D667-480D-B51B-9E06A783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2208D-101D-489D-A6FB-E33BD15B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3072-D9C6-47B6-8691-8C4A27A4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F052F-5D64-469F-80AB-5BFFA8F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445A9-CAFD-455F-B997-A6621138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303A-2311-4567-AE46-0AB938B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8196-A222-4004-BD7A-B98C4434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74E-43BD-48A8-91C1-EF3EC88F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EA905-90A4-4E18-8D36-F9CB5306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214-1AB2-4168-A3F2-A9C08773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2CE-836C-4DAB-A432-CDE2AC3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92D-9FA7-4AFE-B046-2E15D1C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4760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8914-61D7-4B94-B109-504288C21F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F64B-D62E-4348-BEA5-4680FF2E596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C7F5-1C83-4D46-8828-1B1FFBFBE7B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9494-7C71-47A8-831B-BEB4253D6544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7574-B7B6-4008-BBE1-FC6A949BAB0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908000" y="2276640"/>
            <a:ext cx="561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24.2 </a:t>
            </a: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与圆有关的位置关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771640" y="3787920"/>
            <a:ext cx="396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4.2.1 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点和圆的位置关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95280" y="907920"/>
            <a:ext cx="8353440" cy="460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2764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4000" y="138744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如图，作经过已知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圆，这样的圆你能作出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955880"/>
            <a:ext cx="820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如图作经过已知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圆，这样的圆你能作出多少个？他们的圆心分布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79280" y="185400"/>
            <a:ext cx="3095640" cy="1097280"/>
            <a:chOff x="179280" y="185400"/>
            <a:chExt cx="3095640" cy="1097280"/>
          </a:xfrm>
        </p:grpSpPr>
        <p:sp>
          <p:nvSpPr>
            <p:cNvPr id="443" name=""/>
            <p:cNvSpPr/>
            <p:nvPr/>
          </p:nvSpPr>
          <p:spPr>
            <a:xfrm>
              <a:off x="395280" y="635040"/>
              <a:ext cx="2879640" cy="647640"/>
            </a:xfrm>
            <a:custGeom>
              <a:avLst/>
              <a:gdLst/>
              <a:ahLst/>
              <a:rect l="l" t="t" r="r" b="b"/>
              <a:pathLst>
                <a:path w="1814" h="408">
                  <a:moveTo>
                    <a:pt x="0" y="181"/>
                  </a:moveTo>
                  <a:lnTo>
                    <a:pt x="1088" y="408"/>
                  </a:lnTo>
                  <a:lnTo>
                    <a:pt x="1814" y="136"/>
                  </a:lnTo>
                  <a:lnTo>
                    <a:pt x="771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755640" y="58320"/>
              <a:ext cx="360360" cy="151308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64600 h 1513080"/>
                <a:gd name="textAreaBottom" fmla="*/ 109692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1150920" y="-48960"/>
              <a:ext cx="216000" cy="115272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201600 h 1152720"/>
                <a:gd name="textAreaBottom" fmla="*/ 83592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680000">
              <a:off x="1697760" y="-207360"/>
              <a:ext cx="144360" cy="1079280"/>
            </a:xfrm>
            <a:custGeom>
              <a:avLst/>
              <a:gdLst>
                <a:gd name="textAreaLeft" fmla="*/ 19080 w 144360"/>
                <a:gd name="textAreaRight" fmla="*/ 125280 w 144360"/>
                <a:gd name="textAreaTop" fmla="*/ 174240 h 1079280"/>
                <a:gd name="textAreaBottom" fmla="*/ 76608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6978" stAng="-5400000" swAng="5400000"/>
                  <a:lnTo>
                    <a:pt x="21600" y="11838"/>
                  </a:lnTo>
                  <a:arcTo wR="21600" hR="6978" stAng="0" swAng="3480798"/>
                  <a:lnTo>
                    <a:pt x="4272" y="21462"/>
                  </a:lnTo>
                  <a:lnTo>
                    <a:pt x="0" y="16386"/>
                  </a:lnTo>
                  <a:lnTo>
                    <a:pt x="4272" y="11034"/>
                  </a:lnTo>
                  <a:lnTo>
                    <a:pt x="4272" y="13818"/>
                  </a:lnTo>
                  <a:arcTo wR="21600" hR="6978" stAng="3480798" swAng="-3070191"/>
                  <a:lnTo>
                    <a:pt x="20248" y="9408"/>
                  </a:lnTo>
                  <a:arcTo wR="21600" hR="6978" stAng="-410607" swAng="-4989393"/>
                  <a:close/>
                </a:path>
                <a:path fill="darkenLess" w="21600" h="21600">
                  <a:moveTo>
                    <a:pt x="0" y="0"/>
                  </a:moveTo>
                  <a:arcTo wR="21600" hR="6978" stAng="-5400000" swAng="5400000"/>
                  <a:lnTo>
                    <a:pt x="21600" y="11838"/>
                  </a:lnTo>
                  <a:arcTo wR="21600" hR="6978" stAng="0" swAng="-410607"/>
                  <a:lnTo>
                    <a:pt x="20248" y="9408"/>
                  </a:lnTo>
                  <a:arcTo wR="21600" hR="6978" stAng="-410607" swAng="-4989393"/>
                  <a:close/>
                </a:path>
              </a:pathLst>
            </a:custGeom>
            <a:solidFill>
              <a:srgbClr val="b9e5d4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36720" y="274680"/>
              <a:ext cx="122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692360" y="4221000"/>
            <a:ext cx="1008000" cy="100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0920" y="3284640"/>
            <a:ext cx="1441440" cy="14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0" y="4581360"/>
            <a:ext cx="865080" cy="8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78480" y="3716280"/>
            <a:ext cx="100800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84720" y="3500280"/>
            <a:ext cx="1441440" cy="14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6000" y="3789360"/>
            <a:ext cx="86508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59280" y="42354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120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2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27280" y="429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99200" y="4624560"/>
            <a:ext cx="730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99200" y="3745080"/>
            <a:ext cx="730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75560" y="419256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84800" y="419256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38920" y="419256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55720" y="468144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28800" y="397512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52800" y="4710240"/>
            <a:ext cx="72720" cy="72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30400" y="499752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0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611280" y="4510080"/>
            <a:ext cx="8207280" cy="1655640"/>
            <a:chOff x="611280" y="4510080"/>
            <a:chExt cx="8207280" cy="1655640"/>
          </a:xfrm>
        </p:grpSpPr>
        <p:sp>
          <p:nvSpPr>
            <p:cNvPr id="468" name=""/>
            <p:cNvSpPr/>
            <p:nvPr/>
          </p:nvSpPr>
          <p:spPr>
            <a:xfrm>
              <a:off x="611280" y="4510080"/>
              <a:ext cx="8207280" cy="165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71640" y="4861080"/>
              <a:ext cx="763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经过不在同一条直线上的三点作一个圆，如何确定这个圆的圆心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22200" y="1484280"/>
            <a:ext cx="2305080" cy="888840"/>
            <a:chOff x="322200" y="1484280"/>
            <a:chExt cx="2305080" cy="888840"/>
          </a:xfrm>
        </p:grpSpPr>
        <p:sp>
          <p:nvSpPr>
            <p:cNvPr id="471" name=""/>
            <p:cNvSpPr/>
            <p:nvPr/>
          </p:nvSpPr>
          <p:spPr>
            <a:xfrm>
              <a:off x="1330200" y="1869840"/>
              <a:ext cx="1297080" cy="287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2560" y="1509480"/>
              <a:ext cx="647640" cy="64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2200" y="1869840"/>
              <a:ext cx="1319400" cy="49068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2200" y="1882800"/>
              <a:ext cx="1319400" cy="49032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874800" y="1596960"/>
              <a:ext cx="301680" cy="52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?</a:t>
              </a:r>
              <a:endPara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1474920" y="1484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思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2035080" y="1709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考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12720" y="2565360"/>
            <a:ext cx="8207280" cy="1224000"/>
            <a:chOff x="612720" y="2565360"/>
            <a:chExt cx="8207280" cy="1224000"/>
          </a:xfrm>
        </p:grpSpPr>
        <p:sp>
          <p:nvSpPr>
            <p:cNvPr id="479" name=""/>
            <p:cNvSpPr/>
            <p:nvPr/>
          </p:nvSpPr>
          <p:spPr>
            <a:xfrm>
              <a:off x="612720" y="2565360"/>
              <a:ext cx="820728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69840" y="283860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经过已知的三点作圆，这样的圆能作出多少个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330960" y="3767040"/>
            <a:ext cx="1752480" cy="1700280"/>
          </a:xfrm>
          <a:custGeom>
            <a:avLst/>
            <a:gdLst/>
            <a:ahLst/>
            <a:rect l="l" t="t" r="r" b="b"/>
            <a:pathLst>
              <a:path w="1104" h="1071">
                <a:moveTo>
                  <a:pt x="1104" y="0"/>
                </a:moveTo>
                <a:lnTo>
                  <a:pt x="0" y="10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42120" y="547380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088480" y="3772080"/>
            <a:ext cx="414000" cy="1695240"/>
          </a:xfrm>
          <a:custGeom>
            <a:avLst/>
            <a:gdLst/>
            <a:ahLst/>
            <a:rect l="l" t="t" r="r" b="b"/>
            <a:pathLst>
              <a:path w="261" h="1068">
                <a:moveTo>
                  <a:pt x="0" y="0"/>
                </a:moveTo>
                <a:lnTo>
                  <a:pt x="261" y="10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5640" y="5635800"/>
            <a:ext cx="54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在同一条直线上的三点确定一个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4560" y="3573360"/>
            <a:ext cx="2519640" cy="251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408800" y="429264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54560" y="3645000"/>
            <a:ext cx="144180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523280" y="4149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16880" y="494172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946920" y="5373720"/>
            <a:ext cx="1008000" cy="216000"/>
            <a:chOff x="6946920" y="5373720"/>
            <a:chExt cx="1008000" cy="216000"/>
          </a:xfrm>
        </p:grpSpPr>
        <p:sp>
          <p:nvSpPr>
            <p:cNvPr id="491" name=""/>
            <p:cNvSpPr/>
            <p:nvPr/>
          </p:nvSpPr>
          <p:spPr>
            <a:xfrm>
              <a:off x="694692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2000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8184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5492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53128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451640" y="45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0280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67280" y="53672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32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451640" y="6165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99280" y="543096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056440" y="373068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459640" y="543096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289404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圆心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为半径作圆，便可以作出经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51280" y="262080"/>
            <a:ext cx="1225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做法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06" name=""/>
          <p:cNvSpPr/>
          <p:nvPr/>
        </p:nvSpPr>
        <p:spPr>
          <a:xfrm>
            <a:off x="539640" y="9558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连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9640" y="155736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作出线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设它们的交点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=OB=O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380360" y="481176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4257720"/>
            <a:ext cx="55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点的圆的圆心只能是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半径等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所以这样的圆只能有一个，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1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539640" y="2560680"/>
            <a:ext cx="48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接圆的圆心是三角形三条边垂直平分线的交点，叫做这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角形的外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2854440"/>
            <a:ext cx="2519640" cy="251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40440" y="3041640"/>
            <a:ext cx="2162160" cy="1712880"/>
          </a:xfrm>
          <a:prstGeom prst="triangle">
            <a:avLst>
              <a:gd name="adj" fmla="val 8093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244000" y="4654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36000" y="3862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740720" y="2638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80000" y="46483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12000" y="4711680"/>
            <a:ext cx="7272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769160" y="301140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72360" y="471168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112536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过三角形的三个顶点可以作一个圆，这个圆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角形的外接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93080" y="4076640"/>
            <a:ext cx="71280" cy="7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539640" y="4665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如图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在的直线垂直平分线段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怎样用这样的工具找到圆形工件的圆心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940360" y="2246400"/>
            <a:ext cx="1871640" cy="18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57840" y="41846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722920" y="2168640"/>
            <a:ext cx="2305080" cy="1950480"/>
            <a:chOff x="5722920" y="2168640"/>
            <a:chExt cx="2305080" cy="1950480"/>
          </a:xfrm>
        </p:grpSpPr>
        <p:sp>
          <p:nvSpPr>
            <p:cNvPr id="526" name=""/>
            <p:cNvSpPr/>
            <p:nvPr/>
          </p:nvSpPr>
          <p:spPr>
            <a:xfrm>
              <a:off x="5722920" y="2241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22920" y="21686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225840" y="2247840"/>
              <a:ext cx="1297080" cy="1871280"/>
              <a:chOff x="6225840" y="2247840"/>
              <a:chExt cx="1297080" cy="1871280"/>
            </a:xfrm>
          </p:grpSpPr>
          <p:sp>
            <p:nvSpPr>
              <p:cNvPr id="529" name=""/>
              <p:cNvSpPr/>
              <p:nvPr/>
            </p:nvSpPr>
            <p:spPr>
              <a:xfrm>
                <a:off x="6875280" y="25347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6225840" y="2247840"/>
                <a:ext cx="1297080" cy="1871280"/>
                <a:chOff x="6225840" y="2247840"/>
                <a:chExt cx="1297080" cy="187128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225840" y="2528280"/>
                  <a:ext cx="1297080" cy="71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831000" y="2587320"/>
                  <a:ext cx="71280" cy="15109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60880" y="2247840"/>
                  <a:ext cx="0" cy="1871280"/>
                </a:xfrm>
                <a:prstGeom prst="line">
                  <a:avLst/>
                </a:prstGeom>
                <a:ln w="28440">
                  <a:solidFill>
                    <a:srgbClr val="ffffff">
                      <a:alpha val="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4" name=""/>
          <p:cNvSpPr/>
          <p:nvPr/>
        </p:nvSpPr>
        <p:spPr>
          <a:xfrm>
            <a:off x="6875640" y="2247840"/>
            <a:ext cx="0" cy="187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063840" y="2729520"/>
            <a:ext cx="1621080" cy="93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875640" y="3097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46840" y="3154320"/>
            <a:ext cx="71640" cy="7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188604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∵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点在圆上，所以圆心必与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点的距离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4360" y="311148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又∵和一条线段的两个端点距离相等的点在这条线段的垂直平分线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4360" y="44067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圆心在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所在的直线上，因此可以做任意两条直径，它们的交点为圆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51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39640" y="1052640"/>
            <a:ext cx="820764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00000" y="134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经过同一条直线三个点能作出一个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50920" y="476280"/>
            <a:ext cx="2305080" cy="888840"/>
            <a:chOff x="250920" y="476280"/>
            <a:chExt cx="2305080" cy="888840"/>
          </a:xfrm>
        </p:grpSpPr>
        <p:sp>
          <p:nvSpPr>
            <p:cNvPr id="544" name=""/>
            <p:cNvSpPr/>
            <p:nvPr/>
          </p:nvSpPr>
          <p:spPr>
            <a:xfrm>
              <a:off x="1258920" y="861840"/>
              <a:ext cx="1297080" cy="287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1280" y="501480"/>
              <a:ext cx="647640" cy="64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0920" y="861840"/>
              <a:ext cx="1319400" cy="49068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0920" y="874800"/>
              <a:ext cx="1319400" cy="49032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803520" y="588960"/>
              <a:ext cx="301680" cy="52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?</a:t>
              </a:r>
              <a:endPara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1403640" y="476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思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1963800" y="701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考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51" name="m16Arc 211"/>
          <p:cNvSpPr/>
          <p:nvPr/>
        </p:nvSpPr>
        <p:spPr>
          <a:xfrm>
            <a:off x="1403280" y="3429000"/>
            <a:ext cx="108072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2"/>
                </a:moveTo>
                <a:arcTo wR="10800" hR="10800" stAng="-10772052" swAng="10772052"/>
                <a:lnTo>
                  <a:pt x="10800" y="10800"/>
                </a:lnTo>
                <a:close/>
              </a:path>
              <a:path fill="none" w="21600" h="21600">
                <a:moveTo>
                  <a:pt x="0" y="10712"/>
                </a:moveTo>
                <a:arcTo wR="10800" hR="10800" stAng="-10772052" swAng="10772052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1280" y="3068640"/>
            <a:ext cx="3095640" cy="2601720"/>
            <a:chOff x="611280" y="3068640"/>
            <a:chExt cx="3095640" cy="2601720"/>
          </a:xfrm>
        </p:grpSpPr>
        <p:sp>
          <p:nvSpPr>
            <p:cNvPr id="553" name=""/>
            <p:cNvSpPr/>
            <p:nvPr/>
          </p:nvSpPr>
          <p:spPr>
            <a:xfrm>
              <a:off x="611280" y="522936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03280" y="400536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84360" y="400536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71640" y="518652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35280" y="518652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59280" y="518796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08000" y="3386160"/>
              <a:ext cx="716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73440" y="4051440"/>
              <a:ext cx="41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29080" y="4221000"/>
              <a:ext cx="41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1280" y="5229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92360" y="5302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987640" y="5302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92360" y="3068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708360" y="2276640"/>
            <a:ext cx="50418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假设过同一条直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三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作一个圆，设这个圆的圆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那么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既在线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，又在线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，即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交点，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与我们以前学过的“过一点有且只有一条直线与已知直线垂直”相矛盾，所以过同一条直线上的三点不能作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539640" y="1590840"/>
            <a:ext cx="8136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题的结论不成立，然后由此经过推理得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矛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与公理、定理、定义或已知条件相矛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由矛盾判定假设不正确，从而得到原命题成立，这种方法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证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32000" y="76500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什么叫反证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11280" y="6825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证法常用于解决用直接证法不易证明或不能证明的命题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4920" y="2131920"/>
            <a:ext cx="66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命题的结论是否定型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命题的结论是无限型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命题的结论是“至多”或“至少”型的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66840" y="4395960"/>
            <a:ext cx="165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8360" y="333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意四个点是不是可以作一个圆？请举例说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60360" y="13255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81944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点在一条直线上不能作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640" y="31417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点中任意三点不在一条直线可能作圆也可能作不出一个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25320" y="4654440"/>
            <a:ext cx="1152720" cy="11527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0920" y="4338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763640" y="43513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7960" y="5705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5200" y="56912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454720" y="4908600"/>
            <a:ext cx="1433520" cy="996840"/>
          </a:xfrm>
          <a:prstGeom prst="parallelogram">
            <a:avLst>
              <a:gd name="adj" fmla="val 3598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75280" y="4346640"/>
            <a:ext cx="1870200" cy="174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580000" y="4653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04000" y="458136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43640" y="595008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48360" y="5877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667640" y="4073400"/>
            <a:ext cx="1320840" cy="1776600"/>
          </a:xfrm>
          <a:custGeom>
            <a:avLst/>
            <a:gdLst/>
            <a:ahLst/>
            <a:rect l="l" t="t" r="r" b="b"/>
            <a:pathLst>
              <a:path w="832" h="1119">
                <a:moveTo>
                  <a:pt x="832" y="494"/>
                </a:moveTo>
                <a:lnTo>
                  <a:pt x="623" y="1119"/>
                </a:lnTo>
                <a:lnTo>
                  <a:pt x="130" y="1117"/>
                </a:lnTo>
                <a:lnTo>
                  <a:pt x="0" y="0"/>
                </a:lnTo>
                <a:lnTo>
                  <a:pt x="832" y="494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6663000">
            <a:off x="7463880" y="4379760"/>
            <a:ext cx="1584360" cy="1584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087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962920" y="4552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45680" y="57769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64320" y="57913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10040" y="4414680"/>
            <a:ext cx="1114200" cy="1413000"/>
          </a:xfrm>
          <a:custGeom>
            <a:avLst/>
            <a:gdLst/>
            <a:ahLst/>
            <a:rect l="l" t="t" r="r" b="b"/>
            <a:pathLst>
              <a:path w="702" h="890">
                <a:moveTo>
                  <a:pt x="702" y="265"/>
                </a:moveTo>
                <a:lnTo>
                  <a:pt x="493" y="890"/>
                </a:lnTo>
                <a:lnTo>
                  <a:pt x="0" y="888"/>
                </a:lnTo>
                <a:lnTo>
                  <a:pt x="82" y="0"/>
                </a:lnTo>
                <a:lnTo>
                  <a:pt x="702" y="265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6663000">
            <a:off x="2699640" y="4357440"/>
            <a:ext cx="1584360" cy="158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87640" y="40258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99040" y="45306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81440" y="57546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800440" y="576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2467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点在同一直线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另一点不在这条直线上不能作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11280" y="907920"/>
            <a:ext cx="8137440" cy="3816360"/>
            <a:chOff x="611280" y="907920"/>
            <a:chExt cx="8137440" cy="3816360"/>
          </a:xfrm>
        </p:grpSpPr>
        <p:sp>
          <p:nvSpPr>
            <p:cNvPr id="299" name=""/>
            <p:cNvSpPr/>
            <p:nvPr/>
          </p:nvSpPr>
          <p:spPr>
            <a:xfrm>
              <a:off x="611280" y="907920"/>
              <a:ext cx="813744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280" y="907920"/>
              <a:ext cx="8137440" cy="444600"/>
            </a:xfrm>
            <a:prstGeom prst="rect">
              <a:avLst/>
            </a:prstGeom>
            <a:gradFill rotWithShape="0">
              <a:gsLst>
                <a:gs pos="0">
                  <a:srgbClr val="7e9ce8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900000" y="1557360"/>
            <a:ext cx="4176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射击运动员在奥运会上屡获金牌，为我国赢得荣誉，右图是射击靶的示意图，它是由许多同心圆（圆心相同，半径不等的圆）构成的，你知道击中靶上不同位置的成绩是如何计算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26920" y="333360"/>
            <a:ext cx="1008000" cy="773280"/>
            <a:chOff x="826920" y="333360"/>
            <a:chExt cx="1008000" cy="773280"/>
          </a:xfrm>
        </p:grpSpPr>
        <p:sp>
          <p:nvSpPr>
            <p:cNvPr id="303" name=""/>
            <p:cNvSpPr/>
            <p:nvPr/>
          </p:nvSpPr>
          <p:spPr>
            <a:xfrm>
              <a:off x="826920" y="542880"/>
              <a:ext cx="1008000" cy="360360"/>
            </a:xfrm>
            <a:custGeom>
              <a:avLst/>
              <a:gdLst/>
              <a:ahLst/>
              <a:rect l="l" t="t" r="r" b="b"/>
              <a:pathLst>
                <a:path w="942" h="393">
                  <a:moveTo>
                    <a:pt x="127" y="277"/>
                  </a:moveTo>
                  <a:cubicBezTo>
                    <a:pt x="100" y="272"/>
                    <a:pt x="73" y="280"/>
                    <a:pt x="46" y="280"/>
                  </a:cubicBezTo>
                  <a:cubicBezTo>
                    <a:pt x="38" y="279"/>
                    <a:pt x="31" y="279"/>
                    <a:pt x="22" y="281"/>
                  </a:cubicBezTo>
                  <a:cubicBezTo>
                    <a:pt x="18" y="281"/>
                    <a:pt x="15" y="283"/>
                    <a:pt x="11" y="283"/>
                  </a:cubicBezTo>
                  <a:cubicBezTo>
                    <a:pt x="7" y="283"/>
                    <a:pt x="0" y="286"/>
                    <a:pt x="2" y="284"/>
                  </a:cubicBezTo>
                  <a:cubicBezTo>
                    <a:pt x="22" y="276"/>
                    <a:pt x="41" y="270"/>
                    <a:pt x="61" y="263"/>
                  </a:cubicBezTo>
                  <a:cubicBezTo>
                    <a:pt x="76" y="261"/>
                    <a:pt x="90" y="258"/>
                    <a:pt x="105" y="255"/>
                  </a:cubicBezTo>
                  <a:cubicBezTo>
                    <a:pt x="108" y="253"/>
                    <a:pt x="114" y="253"/>
                    <a:pt x="115" y="249"/>
                  </a:cubicBezTo>
                  <a:cubicBezTo>
                    <a:pt x="116" y="246"/>
                    <a:pt x="111" y="249"/>
                    <a:pt x="108" y="248"/>
                  </a:cubicBezTo>
                  <a:cubicBezTo>
                    <a:pt x="106" y="246"/>
                    <a:pt x="105" y="245"/>
                    <a:pt x="102" y="244"/>
                  </a:cubicBezTo>
                  <a:cubicBezTo>
                    <a:pt x="86" y="237"/>
                    <a:pt x="65" y="236"/>
                    <a:pt x="48" y="238"/>
                  </a:cubicBezTo>
                  <a:cubicBezTo>
                    <a:pt x="41" y="238"/>
                    <a:pt x="35" y="238"/>
                    <a:pt x="28" y="237"/>
                  </a:cubicBezTo>
                  <a:cubicBezTo>
                    <a:pt x="24" y="237"/>
                    <a:pt x="12" y="239"/>
                    <a:pt x="15" y="236"/>
                  </a:cubicBezTo>
                  <a:cubicBezTo>
                    <a:pt x="16" y="234"/>
                    <a:pt x="28" y="234"/>
                    <a:pt x="31" y="234"/>
                  </a:cubicBezTo>
                  <a:cubicBezTo>
                    <a:pt x="52" y="232"/>
                    <a:pt x="73" y="226"/>
                    <a:pt x="94" y="228"/>
                  </a:cubicBezTo>
                  <a:cubicBezTo>
                    <a:pt x="94" y="228"/>
                    <a:pt x="109" y="227"/>
                    <a:pt x="113" y="226"/>
                  </a:cubicBezTo>
                  <a:cubicBezTo>
                    <a:pt x="117" y="226"/>
                    <a:pt x="125" y="226"/>
                    <a:pt x="125" y="226"/>
                  </a:cubicBezTo>
                  <a:cubicBezTo>
                    <a:pt x="119" y="219"/>
                    <a:pt x="116" y="218"/>
                    <a:pt x="107" y="218"/>
                  </a:cubicBezTo>
                  <a:cubicBezTo>
                    <a:pt x="100" y="213"/>
                    <a:pt x="83" y="209"/>
                    <a:pt x="73" y="210"/>
                  </a:cubicBezTo>
                  <a:cubicBezTo>
                    <a:pt x="54" y="202"/>
                    <a:pt x="63" y="203"/>
                    <a:pt x="45" y="204"/>
                  </a:cubicBezTo>
                  <a:cubicBezTo>
                    <a:pt x="41" y="205"/>
                    <a:pt x="54" y="202"/>
                    <a:pt x="59" y="201"/>
                  </a:cubicBezTo>
                  <a:cubicBezTo>
                    <a:pt x="66" y="199"/>
                    <a:pt x="75" y="200"/>
                    <a:pt x="82" y="198"/>
                  </a:cubicBezTo>
                  <a:cubicBezTo>
                    <a:pt x="109" y="192"/>
                    <a:pt x="134" y="191"/>
                    <a:pt x="161" y="187"/>
                  </a:cubicBezTo>
                  <a:cubicBezTo>
                    <a:pt x="170" y="179"/>
                    <a:pt x="160" y="179"/>
                    <a:pt x="153" y="177"/>
                  </a:cubicBezTo>
                  <a:cubicBezTo>
                    <a:pt x="149" y="173"/>
                    <a:pt x="135" y="170"/>
                    <a:pt x="135" y="170"/>
                  </a:cubicBezTo>
                  <a:cubicBezTo>
                    <a:pt x="129" y="163"/>
                    <a:pt x="121" y="159"/>
                    <a:pt x="114" y="155"/>
                  </a:cubicBezTo>
                  <a:cubicBezTo>
                    <a:pt x="126" y="148"/>
                    <a:pt x="138" y="145"/>
                    <a:pt x="150" y="138"/>
                  </a:cubicBezTo>
                  <a:cubicBezTo>
                    <a:pt x="160" y="134"/>
                    <a:pt x="170" y="123"/>
                    <a:pt x="180" y="119"/>
                  </a:cubicBezTo>
                  <a:cubicBezTo>
                    <a:pt x="188" y="116"/>
                    <a:pt x="204" y="101"/>
                    <a:pt x="212" y="95"/>
                  </a:cubicBezTo>
                  <a:cubicBezTo>
                    <a:pt x="234" y="76"/>
                    <a:pt x="269" y="64"/>
                    <a:pt x="293" y="48"/>
                  </a:cubicBezTo>
                  <a:cubicBezTo>
                    <a:pt x="325" y="39"/>
                    <a:pt x="348" y="24"/>
                    <a:pt x="380" y="18"/>
                  </a:cubicBezTo>
                  <a:cubicBezTo>
                    <a:pt x="420" y="9"/>
                    <a:pt x="464" y="9"/>
                    <a:pt x="503" y="4"/>
                  </a:cubicBezTo>
                  <a:cubicBezTo>
                    <a:pt x="530" y="0"/>
                    <a:pt x="537" y="5"/>
                    <a:pt x="564" y="3"/>
                  </a:cubicBezTo>
                  <a:cubicBezTo>
                    <a:pt x="570" y="2"/>
                    <a:pt x="584" y="4"/>
                    <a:pt x="590" y="4"/>
                  </a:cubicBezTo>
                  <a:cubicBezTo>
                    <a:pt x="595" y="5"/>
                    <a:pt x="620" y="13"/>
                    <a:pt x="620" y="13"/>
                  </a:cubicBezTo>
                  <a:cubicBezTo>
                    <a:pt x="635" y="21"/>
                    <a:pt x="646" y="23"/>
                    <a:pt x="659" y="25"/>
                  </a:cubicBezTo>
                  <a:cubicBezTo>
                    <a:pt x="666" y="27"/>
                    <a:pt x="680" y="37"/>
                    <a:pt x="680" y="37"/>
                  </a:cubicBezTo>
                  <a:cubicBezTo>
                    <a:pt x="683" y="39"/>
                    <a:pt x="691" y="41"/>
                    <a:pt x="701" y="46"/>
                  </a:cubicBezTo>
                  <a:cubicBezTo>
                    <a:pt x="711" y="51"/>
                    <a:pt x="721" y="59"/>
                    <a:pt x="740" y="69"/>
                  </a:cubicBezTo>
                  <a:cubicBezTo>
                    <a:pt x="741" y="90"/>
                    <a:pt x="807" y="99"/>
                    <a:pt x="818" y="109"/>
                  </a:cubicBezTo>
                  <a:cubicBezTo>
                    <a:pt x="855" y="141"/>
                    <a:pt x="870" y="129"/>
                    <a:pt x="903" y="167"/>
                  </a:cubicBezTo>
                  <a:cubicBezTo>
                    <a:pt x="914" y="180"/>
                    <a:pt x="927" y="192"/>
                    <a:pt x="938" y="204"/>
                  </a:cubicBezTo>
                  <a:cubicBezTo>
                    <a:pt x="940" y="208"/>
                    <a:pt x="942" y="209"/>
                    <a:pt x="941" y="213"/>
                  </a:cubicBezTo>
                  <a:cubicBezTo>
                    <a:pt x="941" y="215"/>
                    <a:pt x="939" y="228"/>
                    <a:pt x="936" y="228"/>
                  </a:cubicBezTo>
                  <a:cubicBezTo>
                    <a:pt x="925" y="235"/>
                    <a:pt x="927" y="229"/>
                    <a:pt x="919" y="238"/>
                  </a:cubicBezTo>
                  <a:cubicBezTo>
                    <a:pt x="915" y="243"/>
                    <a:pt x="905" y="250"/>
                    <a:pt x="905" y="250"/>
                  </a:cubicBezTo>
                  <a:cubicBezTo>
                    <a:pt x="887" y="255"/>
                    <a:pt x="869" y="254"/>
                    <a:pt x="851" y="246"/>
                  </a:cubicBezTo>
                  <a:cubicBezTo>
                    <a:pt x="843" y="243"/>
                    <a:pt x="819" y="248"/>
                    <a:pt x="810" y="246"/>
                  </a:cubicBezTo>
                  <a:cubicBezTo>
                    <a:pt x="778" y="273"/>
                    <a:pt x="742" y="285"/>
                    <a:pt x="701" y="304"/>
                  </a:cubicBezTo>
                  <a:cubicBezTo>
                    <a:pt x="667" y="318"/>
                    <a:pt x="657" y="342"/>
                    <a:pt x="605" y="354"/>
                  </a:cubicBezTo>
                  <a:cubicBezTo>
                    <a:pt x="576" y="366"/>
                    <a:pt x="551" y="372"/>
                    <a:pt x="529" y="377"/>
                  </a:cubicBezTo>
                  <a:cubicBezTo>
                    <a:pt x="507" y="382"/>
                    <a:pt x="494" y="384"/>
                    <a:pt x="475" y="386"/>
                  </a:cubicBezTo>
                  <a:cubicBezTo>
                    <a:pt x="456" y="388"/>
                    <a:pt x="445" y="391"/>
                    <a:pt x="415" y="389"/>
                  </a:cubicBezTo>
                  <a:cubicBezTo>
                    <a:pt x="392" y="393"/>
                    <a:pt x="316" y="381"/>
                    <a:pt x="295" y="372"/>
                  </a:cubicBezTo>
                  <a:cubicBezTo>
                    <a:pt x="284" y="367"/>
                    <a:pt x="290" y="370"/>
                    <a:pt x="273" y="366"/>
                  </a:cubicBezTo>
                  <a:cubicBezTo>
                    <a:pt x="269" y="365"/>
                    <a:pt x="259" y="363"/>
                    <a:pt x="259" y="363"/>
                  </a:cubicBezTo>
                  <a:cubicBezTo>
                    <a:pt x="249" y="356"/>
                    <a:pt x="227" y="343"/>
                    <a:pt x="215" y="340"/>
                  </a:cubicBezTo>
                  <a:cubicBezTo>
                    <a:pt x="198" y="320"/>
                    <a:pt x="167" y="313"/>
                    <a:pt x="148" y="296"/>
                  </a:cubicBezTo>
                  <a:cubicBezTo>
                    <a:pt x="141" y="290"/>
                    <a:pt x="135" y="280"/>
                    <a:pt x="127" y="277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18880" y="542880"/>
              <a:ext cx="432000" cy="3589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01400" y="681120"/>
              <a:ext cx="73080" cy="7308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991800" y="333360"/>
              <a:ext cx="702360" cy="208080"/>
              <a:chOff x="991800" y="333360"/>
              <a:chExt cx="702360" cy="208080"/>
            </a:xfrm>
          </p:grpSpPr>
          <p:sp>
            <p:nvSpPr>
              <p:cNvPr id="307" name=""/>
              <p:cNvSpPr/>
              <p:nvPr/>
            </p:nvSpPr>
            <p:spPr>
              <a:xfrm>
                <a:off x="1320480" y="333360"/>
                <a:ext cx="59760" cy="11808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900000">
                <a:off x="1467360" y="348480"/>
                <a:ext cx="59760" cy="11808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200000">
                <a:off x="1613160" y="391320"/>
                <a:ext cx="62280" cy="11808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20700000">
                <a:off x="1159920" y="360000"/>
                <a:ext cx="59760" cy="11844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800000">
                <a:off x="1017000" y="416160"/>
                <a:ext cx="59760" cy="11808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005480" y="900000"/>
              <a:ext cx="696240" cy="206640"/>
              <a:chOff x="1005480" y="900000"/>
              <a:chExt cx="696240" cy="206640"/>
            </a:xfrm>
          </p:grpSpPr>
          <p:sp>
            <p:nvSpPr>
              <p:cNvPr id="313" name=""/>
              <p:cNvSpPr/>
              <p:nvPr/>
            </p:nvSpPr>
            <p:spPr>
              <a:xfrm rot="10800000">
                <a:off x="1316880" y="989280"/>
                <a:ext cx="59040" cy="11736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1700000">
                <a:off x="1171080" y="973800"/>
                <a:ext cx="59040" cy="11736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2000000">
                <a:off x="1023480" y="931320"/>
                <a:ext cx="61920" cy="11736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9900000">
                <a:off x="1475280" y="961920"/>
                <a:ext cx="59040" cy="11772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9000000">
                <a:off x="1617120" y="906480"/>
                <a:ext cx="59040" cy="11736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"/>
          <p:cNvSpPr txBox="1"/>
          <p:nvPr/>
        </p:nvSpPr>
        <p:spPr>
          <a:xfrm>
            <a:off x="1978200" y="5112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观 察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9" name=""/>
          <p:cNvSpPr/>
          <p:nvPr/>
        </p:nvSpPr>
        <p:spPr>
          <a:xfrm>
            <a:off x="5076720" y="278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291280" y="148428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515280" y="2527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375912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２：设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半径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来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圆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距离与半径的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12000" y="1446120"/>
            <a:ext cx="1871640" cy="18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0160" y="1979640"/>
            <a:ext cx="318960" cy="404640"/>
          </a:xfrm>
          <a:custGeom>
            <a:avLst/>
            <a:gdLst/>
            <a:ahLst/>
            <a:rect l="l" t="t" r="r" b="b"/>
            <a:pathLst>
              <a:path w="201" h="255">
                <a:moveTo>
                  <a:pt x="0" y="255"/>
                </a:moveTo>
                <a:lnTo>
                  <a:pt x="20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352000" y="2238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2279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77080" y="1662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2990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236000" y="1951200"/>
            <a:ext cx="7272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88360" y="21668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19920" y="23544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45480" y="2389320"/>
            <a:ext cx="677520" cy="608040"/>
          </a:xfrm>
          <a:custGeom>
            <a:avLst/>
            <a:gdLst/>
            <a:ahLst/>
            <a:rect l="l" t="t" r="r" b="b"/>
            <a:pathLst>
              <a:path w="427" h="383">
                <a:moveTo>
                  <a:pt x="0" y="0"/>
                </a:moveTo>
                <a:lnTo>
                  <a:pt x="427" y="38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2160" y="514188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18320" y="29718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54840" y="2208240"/>
            <a:ext cx="1471680" cy="181080"/>
          </a:xfrm>
          <a:custGeom>
            <a:avLst/>
            <a:gdLst/>
            <a:ahLst/>
            <a:rect l="l" t="t" r="r" b="b"/>
            <a:pathLst>
              <a:path w="927" h="114">
                <a:moveTo>
                  <a:pt x="0" y="114"/>
                </a:moveTo>
                <a:lnTo>
                  <a:pt x="927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8841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题１：观察图中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圆的位置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2080" y="29005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圆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16040" y="16034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圆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16040" y="2251080"/>
            <a:ext cx="29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圆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24000" y="509436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O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70520" y="5141880"/>
            <a:ext cx="16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OB = r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675480" y="2382840"/>
            <a:ext cx="272880" cy="909720"/>
          </a:xfrm>
          <a:custGeom>
            <a:avLst/>
            <a:gdLst/>
            <a:ahLst/>
            <a:rect l="l" t="t" r="r" b="b"/>
            <a:pathLst>
              <a:path w="172" h="573">
                <a:moveTo>
                  <a:pt x="172" y="0"/>
                </a:moveTo>
                <a:lnTo>
                  <a:pt x="0" y="57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189000"/>
            <a:ext cx="2879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问 题 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091280" y="4210200"/>
            <a:ext cx="292320" cy="371160"/>
          </a:xfrm>
          <a:custGeom>
            <a:avLst/>
            <a:gdLst/>
            <a:ahLst/>
            <a:rect l="l" t="t" r="r" b="b"/>
            <a:pathLst>
              <a:path w="184" h="234">
                <a:moveTo>
                  <a:pt x="0" y="234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32000" y="15318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半径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圆心的距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P =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763640" y="2708280"/>
            <a:ext cx="4248360" cy="520560"/>
            <a:chOff x="1763640" y="2708280"/>
            <a:chExt cx="4248360" cy="520560"/>
          </a:xfrm>
        </p:grpSpPr>
        <p:sp>
          <p:nvSpPr>
            <p:cNvPr id="347" name=""/>
            <p:cNvSpPr/>
            <p:nvPr/>
          </p:nvSpPr>
          <p:spPr>
            <a:xfrm>
              <a:off x="1763640" y="2708280"/>
              <a:ext cx="42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点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在圆上             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d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= 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3419640" y="2779560"/>
                  <a:ext cx="8078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9" name=""/>
          <p:cNvGrpSpPr/>
          <p:nvPr/>
        </p:nvGrpSpPr>
        <p:grpSpPr>
          <a:xfrm>
            <a:off x="1763640" y="3259080"/>
            <a:ext cx="4248360" cy="530280"/>
            <a:chOff x="1763640" y="3259080"/>
            <a:chExt cx="4248360" cy="530280"/>
          </a:xfrm>
        </p:grpSpPr>
        <p:sp>
          <p:nvSpPr>
            <p:cNvPr id="350" name=""/>
            <p:cNvSpPr/>
            <p:nvPr/>
          </p:nvSpPr>
          <p:spPr>
            <a:xfrm>
              <a:off x="1763640" y="3259080"/>
              <a:ext cx="42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点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在圆外             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d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＞ 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  .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3419640" y="3270240"/>
                  <a:ext cx="8794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1763640" y="2131920"/>
            <a:ext cx="4464000" cy="505080"/>
            <a:chOff x="1763640" y="2131920"/>
            <a:chExt cx="4464000" cy="505080"/>
          </a:xfrm>
        </p:grpSpPr>
        <p:sp>
          <p:nvSpPr>
            <p:cNvPr id="353" name=""/>
            <p:cNvSpPr/>
            <p:nvPr/>
          </p:nvSpPr>
          <p:spPr>
            <a:xfrm>
              <a:off x="1763640" y="213192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点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在圆内             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d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＜ 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；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4" name=""/>
            <p:cNvGraphicFramePr/>
            <p:nvPr/>
          </p:nvGraphicFramePr>
          <p:xfrm>
            <a:off x="3440160" y="2179800"/>
            <a:ext cx="9158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40160" y="2179800"/>
                      <a:ext cx="9158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6" name=""/>
          <p:cNvGrpSpPr/>
          <p:nvPr/>
        </p:nvGrpSpPr>
        <p:grpSpPr>
          <a:xfrm>
            <a:off x="1042920" y="3860640"/>
            <a:ext cx="3241440" cy="2592720"/>
            <a:chOff x="1042920" y="3860640"/>
            <a:chExt cx="3241440" cy="2592720"/>
          </a:xfrm>
        </p:grpSpPr>
        <p:sp>
          <p:nvSpPr>
            <p:cNvPr id="357" name=""/>
            <p:cNvSpPr/>
            <p:nvPr/>
          </p:nvSpPr>
          <p:spPr>
            <a:xfrm>
              <a:off x="1042920" y="3860640"/>
              <a:ext cx="3241440" cy="2592720"/>
            </a:xfrm>
            <a:prstGeom prst="rect">
              <a:avLst/>
            </a:prstGeom>
            <a:solidFill>
              <a:srgbClr val="ffff66"/>
            </a:solidFill>
            <a:ln w="5724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符号      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作“等价于”，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表示从符号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的左端可以得到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端从右端也可以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到左端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400120" y="4255920"/>
                  <a:ext cx="8121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2896920" y="4971960"/>
                  <a:ext cx="10101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0" name=""/>
            <p:cNvSpPr/>
            <p:nvPr/>
          </p:nvSpPr>
          <p:spPr>
            <a:xfrm>
              <a:off x="2561400" y="4071960"/>
              <a:ext cx="204120" cy="139680"/>
            </a:xfrm>
            <a:prstGeom prst="ellipse">
              <a:avLst/>
            </a:prstGeom>
            <a:solidFill>
              <a:srgbClr val="cc9900"/>
            </a:solidFill>
            <a:ln w="5724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516720" y="5203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4003560"/>
            <a:ext cx="1871640" cy="18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07240" y="4538520"/>
            <a:ext cx="318960" cy="405000"/>
          </a:xfrm>
          <a:custGeom>
            <a:avLst/>
            <a:gdLst/>
            <a:ahLst/>
            <a:rect l="l" t="t" r="r" b="b"/>
            <a:pathLst>
              <a:path w="201" h="255">
                <a:moveTo>
                  <a:pt x="0" y="255"/>
                </a:moveTo>
                <a:lnTo>
                  <a:pt x="20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48369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88000" y="5870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91280" y="450864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765840" y="4916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4943520"/>
            <a:ext cx="9720" cy="923760"/>
          </a:xfrm>
          <a:custGeom>
            <a:avLst/>
            <a:gdLst/>
            <a:ahLst/>
            <a:rect l="l" t="t" r="r" b="b"/>
            <a:pathLst>
              <a:path w="6" h="582">
                <a:moveTo>
                  <a:pt x="6" y="0"/>
                </a:moveTo>
                <a:lnTo>
                  <a:pt x="0" y="58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47628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过来，已知点到圆心的距离和圆的半径，能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判断点和圆的位置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388280" y="3773160"/>
            <a:ext cx="360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48680" y="4176720"/>
            <a:ext cx="72720" cy="712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16600" y="429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91280" y="4508640"/>
            <a:ext cx="73080" cy="712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1280" y="4508640"/>
            <a:ext cx="73080" cy="712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383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23280" y="33876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93 L 0.02743 -0.04723 E">
                                      <p:cBhvr>
                                        <p:cTn id="87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4792 L 0.06979 -0.11528 E">
                                      <p:cBhvr>
                                        <p:cTn id="10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52360" y="98100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cc3399"/>
                </a:solidFill>
                <a:latin typeface="宋体"/>
              </a:rPr>
              <a:t>射击靶图上，有一组以靶心为圆心的大小不同的圆，他们把靶图由内到外分成几个区域，这些区域用由高到底的环数来表示，射击成绩用弹着点位置对应的环数来表示．弹着点与靶心的距离决定了它在哪个圆内，弹着点离靶心越近，它所在的区域就越靠内，对应的环数也就越高，射击的成绩越好</a:t>
            </a:r>
            <a:r>
              <a:rPr b="1" lang="zh-CN" sz="2400" spc="-1" strike="noStrike">
                <a:solidFill>
                  <a:srgbClr val="cc33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8360" y="404640"/>
            <a:ext cx="81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你知道击中靶上不同位置的成绩是如何计算的吗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38498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166680" y="0"/>
            <a:ext cx="5638680" cy="809640"/>
            <a:chOff x="166680" y="0"/>
            <a:chExt cx="5638680" cy="809640"/>
          </a:xfrm>
        </p:grpSpPr>
        <p:grpSp>
          <p:nvGrpSpPr>
            <p:cNvPr id="381" name=""/>
            <p:cNvGrpSpPr/>
            <p:nvPr/>
          </p:nvGrpSpPr>
          <p:grpSpPr>
            <a:xfrm>
              <a:off x="743040" y="0"/>
              <a:ext cx="3980880" cy="803520"/>
              <a:chOff x="743040" y="0"/>
              <a:chExt cx="3980880" cy="803520"/>
            </a:xfrm>
          </p:grpSpPr>
          <p:sp>
            <p:nvSpPr>
              <p:cNvPr id="382" name=""/>
              <p:cNvSpPr/>
              <p:nvPr/>
            </p:nvSpPr>
            <p:spPr>
              <a:xfrm>
                <a:off x="743040" y="160920"/>
                <a:ext cx="3980880" cy="6426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点与圆的位置关系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11400" y="0"/>
                <a:ext cx="1850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4738680" y="123840"/>
              <a:ext cx="10666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66680" y="263520"/>
              <a:ext cx="64944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"/>
          <p:cNvGrpSpPr/>
          <p:nvPr/>
        </p:nvGrpSpPr>
        <p:grpSpPr>
          <a:xfrm>
            <a:off x="3986280" y="1447920"/>
            <a:ext cx="2698200" cy="2698200"/>
            <a:chOff x="3986280" y="1447920"/>
            <a:chExt cx="2698200" cy="2698200"/>
          </a:xfrm>
        </p:grpSpPr>
        <p:sp>
          <p:nvSpPr>
            <p:cNvPr id="387" name=""/>
            <p:cNvSpPr/>
            <p:nvPr/>
          </p:nvSpPr>
          <p:spPr>
            <a:xfrm>
              <a:off x="3986280" y="1447920"/>
              <a:ext cx="2698200" cy="2698200"/>
            </a:xfrm>
            <a:prstGeom prst="ellipse">
              <a:avLst/>
            </a:prstGeom>
            <a:noFill/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63920" y="270936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56240" y="947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圆外的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711680" y="31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圆内的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1371600"/>
            <a:ext cx="1635120" cy="457200"/>
          </a:xfrm>
          <a:prstGeom prst="wedgeRectCallout">
            <a:avLst>
              <a:gd name="adj1" fmla="val -64078"/>
              <a:gd name="adj2" fmla="val 18368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圆上的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393372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平面上的一个圆，把平面上的点分成三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圆上的点，圆内的点和圆外的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2360" y="4941720"/>
            <a:ext cx="73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圆的内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看成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到圆心的距离小于半径的的点的集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圆的外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看成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71640" y="6222960"/>
            <a:ext cx="65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到圆心的距离大于半径的点的集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143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思考：平面上的一个圆把平面上的点分成哪几部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915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如图已知矩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=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0920" y="0"/>
            <a:ext cx="2089080" cy="803160"/>
            <a:chOff x="250920" y="0"/>
            <a:chExt cx="2089080" cy="803160"/>
          </a:xfrm>
        </p:grpSpPr>
        <p:sp>
          <p:nvSpPr>
            <p:cNvPr id="398" name=""/>
            <p:cNvSpPr/>
            <p:nvPr/>
          </p:nvSpPr>
          <p:spPr>
            <a:xfrm>
              <a:off x="250920" y="160560"/>
              <a:ext cx="208908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典型例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13400" y="0"/>
              <a:ext cx="133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746760" y="2762280"/>
            <a:ext cx="2092680" cy="1428840"/>
            <a:chOff x="6746760" y="2762280"/>
            <a:chExt cx="2092680" cy="1428840"/>
          </a:xfrm>
        </p:grpSpPr>
        <p:sp>
          <p:nvSpPr>
            <p:cNvPr id="401" name=""/>
            <p:cNvSpPr/>
            <p:nvPr/>
          </p:nvSpPr>
          <p:spPr>
            <a:xfrm>
              <a:off x="6746760" y="2762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74200" y="2792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29560" y="3916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56480" y="3828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29360" y="2933640"/>
              <a:ext cx="1447920" cy="1067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0" y="16765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以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圆心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为半径作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则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76840" y="1523880"/>
            <a:ext cx="2800440" cy="280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96840" y="2598840"/>
            <a:ext cx="495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(B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上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外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外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1240" y="3124080"/>
            <a:ext cx="644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以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圆心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为半径作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则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4191120"/>
            <a:ext cx="49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(B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内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上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外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440" y="4788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以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圆心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为半径作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则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5810400"/>
            <a:ext cx="49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(B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内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内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00840" y="1863720"/>
            <a:ext cx="2130480" cy="2130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72280" y="1216080"/>
            <a:ext cx="3468600" cy="34686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844720" y="2925720"/>
            <a:ext cx="2158920" cy="21589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19480" y="3286080"/>
            <a:ext cx="1440000" cy="144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011480" y="36464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75200">
            <a:off x="3291840" y="35143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150336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由所有到已知点的距离大于或等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小于或等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点组成的图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97360" y="3976560"/>
            <a:ext cx="71280" cy="7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40200" y="40212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800000">
            <a:off x="2901960" y="3746160"/>
            <a:ext cx="1101600" cy="1440"/>
          </a:xfrm>
          <a:custGeom>
            <a:avLst/>
            <a:gdLst/>
            <a:ahLst/>
            <a:rect l="l" t="t" r="r" b="b"/>
            <a:pathLst>
              <a:path w="694" h="1">
                <a:moveTo>
                  <a:pt x="694" y="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65520" y="3976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419640" y="620640"/>
            <a:ext cx="1584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思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258920" y="2494080"/>
            <a:ext cx="5329080" cy="29509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395280" y="11253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育课上，小明和小雨的铅球成绩分别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他们投出的铅球分别落在图中哪个区域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495320" y="3007440"/>
            <a:ext cx="1155600" cy="1823400"/>
            <a:chOff x="4495320" y="3007440"/>
            <a:chExt cx="1155600" cy="1823400"/>
          </a:xfrm>
        </p:grpSpPr>
        <p:sp>
          <p:nvSpPr>
            <p:cNvPr id="428" name="m16Arc 211"/>
            <p:cNvSpPr/>
            <p:nvPr/>
          </p:nvSpPr>
          <p:spPr>
            <a:xfrm rot="5400000">
              <a:off x="4446360" y="3626280"/>
              <a:ext cx="1823400" cy="58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" y="6866"/>
                  </a:moveTo>
                  <a:arcTo wR="10800" hR="10800" stAng="-9518327" swAng="857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" y="6866"/>
                  </a:moveTo>
                  <a:arcTo wR="10800" hR="10800" stAng="-9518327" swAng="8573450"/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m16Arc 211"/>
            <p:cNvSpPr/>
            <p:nvPr/>
          </p:nvSpPr>
          <p:spPr>
            <a:xfrm rot="5400000">
              <a:off x="4049640" y="3669120"/>
              <a:ext cx="1476360" cy="58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" y="6866"/>
                  </a:moveTo>
                  <a:arcTo wR="10800" hR="10800" stAng="-9518327" swAng="857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" y="6866"/>
                  </a:moveTo>
                  <a:arcTo wR="10800" hR="10800" stAng="-9518327" swAng="8573450"/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78000" y="4679280"/>
              <a:ext cx="567360" cy="95040"/>
            </a:xfrm>
            <a:custGeom>
              <a:avLst/>
              <a:gdLst/>
              <a:ahLst/>
              <a:rect l="l" t="t" r="r" b="b"/>
              <a:pathLst>
                <a:path w="207" h="42">
                  <a:moveTo>
                    <a:pt x="0" y="0"/>
                  </a:moveTo>
                  <a:lnTo>
                    <a:pt x="207" y="42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02840" y="3074400"/>
              <a:ext cx="608400" cy="196560"/>
            </a:xfrm>
            <a:custGeom>
              <a:avLst/>
              <a:gdLst/>
              <a:ahLst/>
              <a:rect l="l" t="t" r="r" b="b"/>
              <a:pathLst>
                <a:path w="222" h="87">
                  <a:moveTo>
                    <a:pt x="0" y="87"/>
                  </a:moveTo>
                  <a:lnTo>
                    <a:pt x="222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132080" y="3235680"/>
            <a:ext cx="913680" cy="1476000"/>
            <a:chOff x="4132080" y="3235680"/>
            <a:chExt cx="913680" cy="1476000"/>
          </a:xfrm>
        </p:grpSpPr>
        <p:sp>
          <p:nvSpPr>
            <p:cNvPr id="433" name="m16Arc 211"/>
            <p:cNvSpPr/>
            <p:nvPr/>
          </p:nvSpPr>
          <p:spPr>
            <a:xfrm rot="5400000">
              <a:off x="4072680" y="3738600"/>
              <a:ext cx="14760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" y="6866"/>
                  </a:moveTo>
                  <a:arcTo wR="10800" hR="10800" stAng="-9518327" swAng="857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" y="6866"/>
                  </a:moveTo>
                  <a:arcTo wR="10800" hR="10800" stAng="-9518327" swAng="8573450"/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m16Arc 211"/>
            <p:cNvSpPr/>
            <p:nvPr/>
          </p:nvSpPr>
          <p:spPr>
            <a:xfrm rot="5400000">
              <a:off x="3776760" y="3775320"/>
              <a:ext cx="1180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" y="6866"/>
                  </a:moveTo>
                  <a:arcTo wR="10800" hR="10800" stAng="-9518327" swAng="857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" y="6866"/>
                  </a:moveTo>
                  <a:arcTo wR="10800" hR="10800" stAng="-9518327" swAng="8573450"/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19720" y="4583160"/>
              <a:ext cx="468000" cy="85680"/>
            </a:xfrm>
            <a:custGeom>
              <a:avLst/>
              <a:gdLst/>
              <a:ahLst/>
              <a:rect l="l" t="t" r="r" b="b"/>
              <a:pathLst>
                <a:path w="213" h="39">
                  <a:moveTo>
                    <a:pt x="0" y="0"/>
                  </a:moveTo>
                  <a:lnTo>
                    <a:pt x="213" y="39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59320" y="3301200"/>
              <a:ext cx="441720" cy="158760"/>
            </a:xfrm>
            <a:custGeom>
              <a:avLst/>
              <a:gdLst/>
              <a:ahLst/>
              <a:rect l="l" t="t" r="r" b="b"/>
              <a:pathLst>
                <a:path w="201" h="72">
                  <a:moveTo>
                    <a:pt x="0" y="72"/>
                  </a:moveTo>
                  <a:lnTo>
                    <a:pt x="20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3419640" y="333360"/>
            <a:ext cx="1584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思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1:38:13Z</dcterms:created>
  <dc:creator/>
  <dc:description/>
  <dc:language>en-US</dc:language>
  <cp:lastModifiedBy>USER</cp:lastModifiedBy>
  <dcterms:modified xsi:type="dcterms:W3CDTF">2008-10-01T03:04:47Z</dcterms:modified>
  <cp:revision>35</cp:revision>
  <dc:subject/>
  <dc:title/>
</cp:coreProperties>
</file>